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4D6-AE64-4835-816C-1EFD716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897-466A-49C1-8106-D465C52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4FA-F2C2-4A23-B84B-1E33F6D8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930-D684-4FE4-8B72-BDF1A56E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0D2-6D77-413E-A01E-9A252AD3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85B-B314-45CE-B76B-339EB400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3403-5A03-43C9-9F53-E441E20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77CD-407A-48D5-BFEC-36A689E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DCD-6888-4501-8821-13030ADD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7375-90AF-4CA6-AC78-240A62B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1E7-BC89-4812-AC10-2338DA6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ED4-EF60-4D13-9BEF-E8A4130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845A-5CB8-4299-950E-8AC5A05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58A3-EA24-4B0D-8417-739ABFB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7AC-17B0-456B-B32A-5FFF3455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4CCA-05FA-4669-9232-A48B8A3E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680F-8D0B-49D8-A25C-D7C64F7F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3CA0-BB51-488B-A731-5D305C5F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A212-7886-4BDB-9989-AECEEDD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7D1B-2AF7-4B88-BB37-351AE18C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36F3-D002-4A3A-A1EB-2D5639C7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8061-92E3-427C-B278-F8C9F7AD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2D4-40E8-4D3E-A00D-ACBDB1E0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E6E4-501B-4351-A19B-76522FCE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819A-7275-4C7E-8D48-BB35057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F7C9-0883-4151-A1D4-9933ED8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3916-0C0D-4D77-9AB5-2E3200D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B855-224C-4587-B602-800D4C49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14A8-BDA7-4E7A-A5C0-72F8953F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16BE-D52B-424C-84C7-E6881290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20BD-B832-4AC2-9E92-87B28A04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2ABB-383B-4CB1-8EC0-F2DD59A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244B-D45A-412C-B280-23EA3B9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676-789D-4398-BB47-6B279E6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8F4B-A335-4D99-91B9-55638FEE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04DE-6498-4852-9A0C-52C5D205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072C-2E72-47ED-BA0E-9C05354D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A0BC-3FF4-411A-BB8F-3A7C071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EB16-F23F-4E83-916E-3B36497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906A-1DAE-40A5-9AF2-1A6AD66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7134-151B-43FC-9406-69DE972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B5E0-DB6A-4769-A477-FAD532FD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313D-1A68-4501-97A3-AA0AAB92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D2AD-182F-452F-A20C-185FBEF2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0D8-8C4E-4FFB-A113-9059967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7046-3580-43A2-A03C-AA2EAE4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A20D-7039-4758-B3AC-5A220092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B12F-515F-4155-9844-DB7A009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CFCA-42B1-4E9E-8FC3-3F6F9BA1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6384-D835-4A29-8767-A63ADF9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3BBA-8BEA-4350-8BF8-B8D0828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42324-7F1D-498B-A71F-302033B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00A9F-8144-4A2C-9310-8554ED44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35F2-66E8-4287-9F50-D68C19F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E999-7ED4-4682-B51D-25E139F7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309-0795-4E6B-8EA2-9F22AE09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30FE-5B43-48FE-B06E-6E622141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719A-570F-464E-9FD4-2C9B6A67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3A9C-F44B-4045-943B-7C2E82C3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131E-BB38-4151-A300-BE927B0F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E941-F145-4FFD-A876-D0306ED5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F2A2D-E0F3-4A78-AD65-9AC0FAED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EA04-7781-429B-BCDE-8DB724A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3EA0-BEE5-4D5C-9902-E560A68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138F-0335-49C4-82B5-9DB0F96E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B1B71-66DC-471D-BCC7-48623799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C62-1D76-4928-8596-5B5C836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CC807-24C6-4E19-9177-76E851F3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86B65-8AAF-4AA5-BDB1-38857B76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3A56A-06B8-448D-B14D-6BCCAA59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0614-4872-4362-BFDE-DFEB95E8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EBDF1-438F-42E8-AE0F-09F220D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046A-2A23-4546-960F-6E3AD537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3CAF-966F-42A2-BC44-53BDC0A2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0C95-86EF-4045-B011-81A8A87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344A-D3F1-4C6E-A39F-4830C631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08043-A4BC-4D76-BB64-DACC054D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129-DFB9-4AD5-B04F-AFCFA4F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84D5-6A8F-421E-94F1-A7E0C75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E3FC-A49E-494E-8AE3-945CA38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C3A4-C3CF-4016-8EF5-1EB3225F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2DF3-69ED-4749-B000-376962D7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9B43-C84B-423A-9D96-777841B5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0C8-D454-495D-9C9F-50A1628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3799-910F-47EC-A622-AE7E5D00F06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238-4F30-4081-9BD0-CCC29F4E202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5A1-1495-4400-BEA1-CE15C3ACAC1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C51C-1AB0-4512-A199-9727D77AA59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134-3690-461C-8C9F-ADC1A83D7D9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4769-0C6F-4092-92BF-C9F6CDC70B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D7D5-7F2F-49C9-AD81-532786106B2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merican Realis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533520" y="1981080"/>
          <a:ext cx="8229600" cy="2565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en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merican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erceived the individual a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oman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lph Waldo Em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enry J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illiam Dean How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ark Tw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ply a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atur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ephen C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ank No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 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85680" y="158760"/>
            <a:ext cx="2602080" cy="1127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Placeholder 7" descr="Realism3.jpg"/>
          <p:cNvPicPr/>
          <p:nvPr/>
        </p:nvPicPr>
        <p:blipFill>
          <a:blip r:embed="rId2"/>
          <a:srcRect l="2669" t="0" r="2669" b="0"/>
          <a:stretch/>
        </p:blipFill>
        <p:spPr>
          <a:xfrm>
            <a:off x="2903400" y="148428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wo views of Realism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Realism is nothing more and nothing less than the truthful treatment of material.”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William Dean Howells, “Editor’s Study”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bel"/>
              </a:rPr>
              <a:t>Harper’s New Monthly Magazine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(November 1889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"Realism, n. The art of depicting nature as it is seen by toads.  The charm suffusing a landscape painted by a mole, or a story written by a measuring-worm."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-Ambrose Bierce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bel"/>
              </a:rPr>
              <a:t>The Devil's Dictionary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(1911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assive growth of the United States after the Civil Wa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creasing rates of democracy and literac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apid growth of industrialism and urbaniz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n expanding population base due to immigr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relative rise in middle-class affluen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alism is “a strategy for imagining and managing the threats of social change"  - Amy Kaplan,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Social Construction of American Realism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i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Content Placeholder 7" descr="Realism1.jpg"/>
          <p:cNvPicPr/>
          <p:nvPr/>
        </p:nvPicPr>
        <p:blipFill>
          <a:blip r:embed="rId2"/>
          <a:stretch/>
        </p:blipFill>
        <p:spPr>
          <a:xfrm>
            <a:off x="4889520" y="1893960"/>
            <a:ext cx="3556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4" descr="Realism2.jpg"/>
          <p:cNvPicPr/>
          <p:nvPr/>
        </p:nvPicPr>
        <p:blipFill>
          <a:blip r:embed="rId2"/>
          <a:stretch/>
        </p:blipFill>
        <p:spPr>
          <a:xfrm>
            <a:off x="560520" y="1773360"/>
            <a:ext cx="3832200" cy="4624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alue for local traditions—fear of their loss due to rapid changes in the U.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iew their stories as a realization of Democrac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jection of Romanticis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erest in psychology and rational philosoph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spect for science and empirical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agmatic, relativistic, democratic and experimental 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ality is relativistic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uth is not absolute, but contextual and verifiable by experi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Content Placeholder 4" descr="Realism 5.jpg"/>
          <p:cNvPicPr/>
          <p:nvPr/>
        </p:nvPicPr>
        <p:blipFill>
          <a:blip r:embed="rId2"/>
          <a:stretch/>
        </p:blipFill>
        <p:spPr>
          <a:xfrm>
            <a:off x="5130720" y="1676520"/>
            <a:ext cx="2793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pic>
        <p:nvPicPr>
          <p:cNvPr id="318" name="Content Placeholder 7" descr="Realism 6.jpg"/>
          <p:cNvPicPr/>
          <p:nvPr/>
        </p:nvPicPr>
        <p:blipFill>
          <a:blip r:embed="rId2"/>
          <a:stretch/>
        </p:blipFill>
        <p:spPr>
          <a:xfrm>
            <a:off x="841320" y="1722600"/>
            <a:ext cx="3197160" cy="4173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 is more important than plo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s are complex, as are their relationships and motiv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vents of the plot are believable, not fantas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ots center around people’s everyday liv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thical choices are often the subject of plot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tuations rarely involve tragic or cataclysmic consequenc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re is no overt moralizing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uthor’s objectivity is valued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ose is simple, clear, and direc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Content Placeholder 4" descr="Realism 8.jpg"/>
          <p:cNvPicPr/>
          <p:nvPr/>
        </p:nvPicPr>
        <p:blipFill>
          <a:blip r:embed="rId2"/>
          <a:stretch/>
        </p:blipFill>
        <p:spPr>
          <a:xfrm>
            <a:off x="4648320" y="2378160"/>
            <a:ext cx="40384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0" y="1828800"/>
            <a:ext cx="419112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6000"/>
          </a:bodyPr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n extension of realis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jects Realism’s emphasis on the ordina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cuses on the fringes of society: the criminal, the fallen, the down-and-ou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ed on Darwinism and scientific Determinis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 person’s fate is the result of external or biological forces (heredity or environment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Content Placeholder 5" descr="Realism2.jpg"/>
          <p:cNvPicPr/>
          <p:nvPr/>
        </p:nvPicPr>
        <p:blipFill>
          <a:blip r:embed="rId2"/>
          <a:stretch/>
        </p:blipFill>
        <p:spPr>
          <a:xfrm>
            <a:off x="4452840" y="2590920"/>
            <a:ext cx="4403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85680" y="139680"/>
            <a:ext cx="2693880" cy="1146240"/>
          </a:xfrm>
          <a:prstGeom prst="rect">
            <a:avLst/>
          </a:prstGeom>
          <a:ln w="0">
            <a:noFill/>
          </a:ln>
        </p:spPr>
      </p:pic>
      <p:pic>
        <p:nvPicPr>
          <p:cNvPr id="327" name="Content Placeholder 3" descr="Realism 4.jpg"/>
          <p:cNvPicPr/>
          <p:nvPr/>
        </p:nvPicPr>
        <p:blipFill>
          <a:blip r:embed="rId2"/>
          <a:stretch/>
        </p:blipFill>
        <p:spPr>
          <a:xfrm>
            <a:off x="4572000" y="1523880"/>
            <a:ext cx="4191120" cy="5224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67760" y="1730520"/>
            <a:ext cx="3489480" cy="4975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image is  the Bandit's Roost slum at 59½ Mulberry Street,  considered one of the most crime-ridden, dangerous parts of New York Cit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Timed Writing (5 minute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nalyze this photograph.  Answer the five questions of OPTIC.  Finally, state the thesis of this visual argumen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4:32:34Z</dcterms:created>
  <dc:creator>Stephen Joseph Fazio</dc:creator>
  <dc:description/>
  <dc:language>en-US</dc:language>
  <cp:lastModifiedBy>Carrie Danielson</cp:lastModifiedBy>
  <dcterms:modified xsi:type="dcterms:W3CDTF">2012-04-10T22:13:44Z</dcterms:modified>
  <cp:revision>158</cp:revision>
  <dc:subject/>
  <dc:title>How History Influences Text: American Realism</dc:title>
</cp:coreProperties>
</file>